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7852-0778-4828-A284-4800B85F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50F-EF32-490C-B96B-868D7497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435A-3D54-40EB-BE31-5F82BA2A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4853-F414-46EB-8106-754946A3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FE71-ACA3-4B74-AB1D-DFA60824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C758-DEF1-4427-ACD8-6D9E44DB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A444-0CC4-4FF9-AF99-C4205903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DBB4-CB74-4BD5-B7DF-EE5B089F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637E-9D30-44EF-B65D-E89C2AF2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E4A-AB59-4DF0-95CF-290BBA57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A3E9-34DA-4205-B5B5-D9FF77F3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8552-F0EC-4F3B-A53E-99617B5F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937D-CEBC-4F0E-B43F-E464AC075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inciples and Plan for Organizing ESA Research Across Tanzania, Malawi and Zamb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roup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ilding Bl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TF – Zambia: SIMLE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MMYT and IITA (maize-legume syste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tern Zamb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TF – Zambi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ICRIS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ndnut + aflatox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TF – Tanzania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Morogoro (rice); Manyara and Dodoma (maize);  Mbeya (horticulture), et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MLES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aize-legume syst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lawi, Tanzania, Mozambique, Kenya, Ethiop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illover – Uganda, Rwanda, Zambia, Botsw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IMLES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maize, legumes, livesto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incip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pact orientation  - shared vision to change livelihoods through integrated interven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untry participation and ownership – not contract resear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gagement of all relevant stakehold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dentify a lead national partner (research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ignment with national and regional investment and food security prior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ster the systems perspectiv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pacity strengthening to rebuild national capac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suring participation and recognition of farmers’ contribu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nder equity - inclusion of women (and me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coordinator (lead cen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coordinators (assigned by national lead partn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objective or theme leaders (key partn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focal points for each theme/obje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coordination by regional/zonal research ce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ed reporting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, national, objective focal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nerships to make this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earch centers (germplasm and technologi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tension agenci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ivate sector (feed, seed, fert, vet, finance, et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rmer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GOs – out-scal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gulatory agencies, bureau of standards, etc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nk with other projects (scaling up/out, spillov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nowledge management system for the project (website, data, newsletter, et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novation platforms to support learning and farmer-led innov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rmer exchange vis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ross farming system in each count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oss-country vis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ientist and partner exchange vis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rmer field day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monstration plots/model fa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rticipatory on-farm tri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ilitating and spillov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 planning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ing of resul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coordinator plus 4-5 reps from country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eld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from SRO for spillovers (CCARDESA, ASARECA, ECA, COMESA, et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g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level (in-kind awards for team wor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level awards to recognize team work and excell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tion of farmer contributions and lead innov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6:19:04Z</dcterms:created>
  <dc:creator>bshiferaw</dc:creator>
  <dc:description/>
  <dc:language>en-US</dc:language>
  <cp:lastModifiedBy>eleborgne</cp:lastModifiedBy>
  <dcterms:modified xsi:type="dcterms:W3CDTF">2012-02-09T09:06:56Z</dcterms:modified>
  <cp:revision>16</cp:revision>
  <dc:subject/>
  <dc:title>Plan and Principles for Organizing ESA Research Across Tanzania, Malawi and Zambia</dc:title>
</cp:coreProperties>
</file>